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5B0-7FDF-4283-B0E6-483F12FD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F7A-51C4-4B8F-8873-BDF0D31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0F2-102C-4FE1-A1A4-7C76B992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88C-00CA-4977-AEB7-FDD4CC4B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381-C148-45E7-B263-94A727D6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AA79-0E03-4523-9D4B-CCFD11A4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77EF-B482-4BB8-A639-C40A256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04B2-2930-46BA-A96B-79A50CB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3774-9EE1-4A85-9CDA-050C4E4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FCCF-2BA7-4A16-9B92-D52EB34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A38-5E5E-49A9-8280-87D3ECD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300-E2AA-4DB4-83C4-3B31DECB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540-AA55-4565-A4FC-F840D85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7A5-FFD0-4B14-965B-A5C680E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65B9-EB56-4768-8B33-4627680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B39F-3DB7-4E68-B09F-D7A8E6A3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F81C-EC2C-4274-95EC-00BDD050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4964-4BAB-4169-A9A8-83C89F5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6796-FF18-407C-B76F-47A25F7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8841-E666-4904-BD38-112FAD8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AA38-D745-44E3-B190-39B3E79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8A12-AB70-46CF-9A3C-F6DD3723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818-30A1-4739-A9E3-35B8E8C4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0552-50A3-49B2-AC0A-EC71E291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DA66D-D46B-458D-845B-2AF51CE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32F7-AFD7-4FB0-AD76-343F592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2B06-4174-4766-8D79-73BC95DA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2DDF-136C-49C6-B79F-32F608E5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71F0-61A4-4B28-B47F-0D9A232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E4E3-02D0-4A78-B552-A4ABA20F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C7FE-7B8C-4877-9156-71A425AF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A1BE-0EE8-4C2F-860A-9F55A0E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26F4-AC47-43AA-A966-B9D8283E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E44-6C83-4942-B9D1-27E6C92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1B33-423B-49FB-A3CD-FC60034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9892-428E-477D-BC02-26D87DA0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F8B2-FE49-4D64-99E6-00AB179E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97EA-C8AC-46DA-A795-3B62C82E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F470-424A-4578-B31B-15F037F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48D5-7B7D-49F4-A9EB-3D612261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B7A4-4216-4819-90E0-77CAFC0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E0C1-F1C2-460D-AB4B-EE7F2252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BDC5-17D4-4BD3-920B-3372A6BD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BC5B-E7F3-497B-AB50-F9C6FBE7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708-0DCA-4FA4-8C1F-4303FF7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69521-FF95-4F31-9224-72C43C4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A1CF-4CC9-428B-B599-52225836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34B2-AF16-4356-BBDF-746C3ED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3990-45B4-4FEF-B95E-9A9FA27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4DC7-C028-4A65-A845-B4447F77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862D-F52D-4143-BDFD-3C7F9ED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27FD-E5A6-431D-8A7C-100A6A9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3F22-AD40-424A-A69B-4E931C4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4BF8-EF8C-495F-9250-5FE3D204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9609-FD0A-4D7B-AB4F-C699CF98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104-3923-4CBC-96DA-31B0A0EA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A287-3AAC-4A9A-BB98-1629E879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16626-E5CB-4A57-BA20-C8EC290F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FF2A-FCB6-485C-A2AF-E76470B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1E93-D763-4FFC-87D4-07BED2BE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2C7F-4291-4E53-AC61-1D025DEB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2CCD-CF06-4AF4-B9F6-D2202F1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BCB0-3C50-479D-8138-501D1977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8467D-0775-4434-ABF7-222C65FF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0E876-A9E5-48D8-9988-EEA9F2A5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6868-447B-4002-AB4C-9DDE9133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5AB-FF60-470B-9874-9B4D1B7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D805-95E3-4E18-899F-F5AC1521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5087-D297-4553-8700-922805D3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9C49C-0AA5-4CA0-B421-93D9C8C9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4CBA-765D-4BAD-97EB-E4CE0C9B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9BDE-05DB-4C5E-9A6F-D01621B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6B0B7-EBFB-45BF-8CEF-19C17F5C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889D7-834F-419D-9F42-2E219B16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C35D5-E90C-459F-A7AC-4D48560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27D1-D19E-4BB7-B71F-E753C192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1DB12-FAE2-4D0F-81B3-15D7BBD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A94-CDEE-4C90-81BD-E244517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76C4-0EE4-4598-B332-8221A6A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2AE31-8469-4D77-92DF-98304EA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BD135-C944-49BD-BB32-2366775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9327-141F-4A9E-964B-42B17011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22FBF-9FC0-4C7F-9C43-0D8B07C8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25DE-4DFB-44DF-9A65-D6AD38F9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6BF97-AF28-43EC-99F6-FB5461FB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4BF5-1EF3-443A-A324-455E5A9D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01DA-8239-4507-8044-BAD6E2A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98BD-444B-402E-92E7-6E93C3A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619-B66E-4558-AD3E-3141DA2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9FEBD-C45C-4259-896E-2477C8BA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31AD-4607-4C84-957B-90A2E41A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DB35A-B2EB-4D11-9436-B3637CD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720AC-4D17-4D7C-A7A0-1595014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B5F48-605A-4017-A081-550EB94A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26C1-57FA-456C-BE78-9ED5B3B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9906-A513-43C4-863F-9D308898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3F7-769A-40DB-AFBA-FA731B2CBC5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8BFC-9715-4B89-836E-D576C74F212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5FA-63BB-40BF-9354-21C02635F0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49B4-7D3D-49E5-AD78-75D79289E0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3B74-B31F-4814-AC56-9AB7A98EA45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5CF6-4030-4DD4-BAB0-800DE62AF5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7F6-F5F2-42AA-9E4E-4059E940D5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D5F-EA4C-4C4C-9F36-AFEF02B902A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669960"/>
            <a:ext cx="8186760" cy="1871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Learning Objectiv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o view and participate in a discussion of "Finding Forrester" and to write a follow-up essay that is a comprehensive and persuasive answer to the basic question of interpretation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Copyright Victor Mo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is book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On Writing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ephen King makes this astounding claim: "If I had not been able to make a career of writing, I am certain that alcohol and drugs would have been my end or I would have done some other vile thing like commit suicide."       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notes on five specific ways that Forrester helps Jamal to become a better writer and person 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notes five ways that Jamal helps Forrester to find hims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"/>
          <p:cNvSpPr/>
          <p:nvPr/>
        </p:nvSpPr>
        <p:spPr>
          <a:xfrm>
            <a:off x="4572000" y="3886200"/>
            <a:ext cx="2590920" cy="26668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5"/>
          <p:cNvSpPr/>
          <p:nvPr/>
        </p:nvSpPr>
        <p:spPr>
          <a:xfrm>
            <a:off x="4572000" y="4572000"/>
            <a:ext cx="25909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7"/>
          <p:cNvSpPr/>
          <p:nvPr/>
        </p:nvSpPr>
        <p:spPr>
          <a:xfrm>
            <a:off x="5867280" y="3886200"/>
            <a:ext cx="0" cy="2666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the title refer more to Forrester’s helping Jamal to become a better writer and person or to Jamal’s helping Forrester to find himself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w that you have heard from your peers, in a two paragraph reflection answer the following using your own opinion and citing examples from the fil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oes the title refer more to Forrester’s helping Jamal to become a better writer and person or to Jamal’s helping Forrester to find himself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4:27:43Z</dcterms:created>
  <dc:creator>Kmontalvo</dc:creator>
  <dc:description/>
  <dc:language>en-US</dc:language>
  <cp:lastModifiedBy>Nvasquez</cp:lastModifiedBy>
  <dcterms:modified xsi:type="dcterms:W3CDTF">2011-05-16T14:51:23Z</dcterms:modified>
  <cp:revision>3</cp:revision>
  <dc:subject/>
  <dc:title>Pre Film</dc:title>
</cp:coreProperties>
</file>